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2E7-C96D-4ECE-A5BD-3CC21E2F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604-EC2A-4255-B6A3-3360EAF4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453-1033-4630-BFC5-E5DB8E32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CC9-BF5F-4610-A1C3-95D2E63D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932-5A2E-4C1D-8DE5-E1AD1209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C3B-7678-421F-B73D-B47E95F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111-C133-45B7-BEFC-674BA2A9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F40-3AFF-40E1-93ED-F24383F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4E8-BE44-414F-8F19-AA75975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E23-ECCD-4381-9475-279157B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1EE-28A1-46C5-AFC6-32C8948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134-0EDF-4288-AC7F-9202B30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DEBF-CA85-4E1F-BFC3-FCE2D650E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 misu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lligator bit the go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tarted to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4495320" y="0"/>
            <a:ext cx="202572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2361960" y="47242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m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1447920" y="2666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800600" y="24382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3200400" y="3200400"/>
            <a:ext cx="442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1066320" y="21574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jjohnson\Local Settings\Temporary Internet Files\Content.IE5\CX58QCPV\MCj04370740000[1].png"/>
          <p:cNvPicPr/>
          <p:nvPr/>
        </p:nvPicPr>
        <p:blipFill>
          <a:blip r:embed="rId3"/>
          <a:stretch/>
        </p:blipFill>
        <p:spPr>
          <a:xfrm flipH="1" rot="17550600">
            <a:off x="5358960" y="44445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jjohnson\Local Settings\Temporary Internet Files\Content.IE5\IZL375VI\MCj01511610000[1].wmf"/>
          <p:cNvPicPr/>
          <p:nvPr/>
        </p:nvPicPr>
        <p:blipFill>
          <a:blip r:embed="rId4"/>
          <a:stretch/>
        </p:blipFill>
        <p:spPr>
          <a:xfrm flipH="1">
            <a:off x="1371240" y="1447920"/>
            <a:ext cx="25146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5105520" y="57150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1905120" y="2209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johnson\Local Settings\Temporary Internet Files\Content.IE5\BWJA6VH8\MCj02997890000[1].wmf"/>
          <p:cNvPicPr/>
          <p:nvPr/>
        </p:nvPicPr>
        <p:blipFill>
          <a:blip r:embed="rId3"/>
          <a:stretch/>
        </p:blipFill>
        <p:spPr>
          <a:xfrm rot="2456400">
            <a:off x="6370200" y="43495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jjohnson\Local Settings\Temporary Internet Files\Content.IE5\64TZQHQH\MCj04260200000[1].wmf"/>
          <p:cNvPicPr/>
          <p:nvPr/>
        </p:nvPicPr>
        <p:blipFill>
          <a:blip r:embed="rId4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an said “football!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848800">
            <a:off x="3606480" y="5327280"/>
            <a:ext cx="12952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ai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n taugh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3827520" y="1957320"/>
            <a:ext cx="20397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they 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was almost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719280" y="1955880"/>
            <a:ext cx="18270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rilla was ahead b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lligator was m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5866920" y="388620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jjohnson\Local Settings\Temporary Internet Files\Content.IE5\FMIT817P\MCj04244520000[1].wmf"/>
          <p:cNvPicPr/>
          <p:nvPr/>
        </p:nvPicPr>
        <p:blipFill>
          <a:blip r:embed="rId3"/>
          <a:stretch/>
        </p:blipFill>
        <p:spPr>
          <a:xfrm>
            <a:off x="5410080" y="3429000"/>
            <a:ext cx="20289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4-09T17:29:29Z</dcterms:modified>
  <cp:revision>8</cp:revision>
  <dc:subject/>
  <dc:title>Gorilla vs. Alligator</dc:title>
</cp:coreProperties>
</file>